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CF08-B1D0-4498-9F8A-C0D92AFE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2A2-91D7-4E49-91AC-CDF24CA4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EBF4-D264-434E-AC3D-927DAE205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DC95-5FA5-4F13-8B8D-1199BD055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2F90B-DE5C-40A5-8387-6B092E89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D33E90-8749-4CF2-8A85-A6EF78AE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D16AD8-34CD-4BC1-BE30-BA989A3F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5A2E3-1D25-4DCC-8350-E4D289CB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04FE9-960E-402B-9982-B8B73BC3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F51E1-DB31-40A6-BE24-961B0D0D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2313A-F5C9-4D7E-95B3-AC00F443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9C42-1954-493D-BA57-7C8292B4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E12A1-F315-488E-A7CF-59FEBDE4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742A7-E384-45FE-904D-A1897D48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691B4-E459-4A3D-BC20-EFB74101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2D5FE-E8DD-4F4E-B044-E1D0B8A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D6B49-E033-433D-A780-D0D236F3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5D8-DB0E-4799-A2C5-55665275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44E-5B6C-42DE-99F6-2BBC042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1D2-207E-407A-B44B-391ED52E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CDE-697B-4DEB-9A57-BF5467D7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8FED-45F5-48D0-B526-F0ED8C52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B32-CEE2-4BB7-9038-8B21627D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7D08-8E0A-4A3C-B9D2-B8325565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CFB6-0205-4877-BCAC-0E8553A9F49D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C2A9-8068-41D9-A2AA-A232F314C2B1}" type="slidenum">
              <a:rPr b="0" lang="zh-TW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57200" y="6105600"/>
          <a:ext cx="743040" cy="752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105600"/>
                    <a:ext cx="743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286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北區毒災應變諮詢中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4038480"/>
            <a:ext cx="73152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         </a:t>
            </a:r>
            <a:r>
              <a:rPr b="1" lang="zh-TW" sz="40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報告者：陳 范 倫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中華民國 九十一 年 八 月 二十 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00200"/>
            <a:ext cx="9144000" cy="16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之運作現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規劃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毒災聯防小組之法律責任</a:t>
            </a:r>
            <a:r>
              <a:rPr b="0" lang="zh-TW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800" y="1143000"/>
            <a:ext cx="8572680" cy="54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目前並無相關法令強制加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簽署聯防支援協定，以確保聯防小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在提供互救時可獲得應有之器材與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力費用的補償，若有爭議由仲裁單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協調，提高廠商的互救意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14400" y="1100160"/>
            <a:ext cx="78487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對象：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署與轄區縣市環保單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其他相關政府單位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轄區運作業者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緊急諮詢方式：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上班時間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8:00~17:30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專線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cc00"/>
                </a:solidFill>
                <a:uFillTx/>
                <a:latin typeface="Arial Narrow"/>
                <a:ea typeface="華康細圓體"/>
              </a:rPr>
              <a:t>0800057119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下班時間與例假日：大哥大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952330005~8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三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非緊急諮詢方式：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5917777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、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-591614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2291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19040" y="0"/>
            <a:ext cx="665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中心緊急諮詢服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86080" y="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一般諮詢服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836640"/>
            <a:ext cx="79218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需要提供毒性化學物質的物質安全資料表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MSDS)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、防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手冊、毒理相關資料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需要提供北區毒災應變諮詢中心的應變流程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SOP)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服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內容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提供毒性化學物質運作工廠的危害預防應變作業要點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劃、偵測警報建置與選擇、緊急應變工具與裝備的選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提供毒災應變訓練課程與教材，演練腳本的提供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其他諮詢服務，如：毒性化學物質種類判定、聯防小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的編組方式與法律效力、毒化物廢棄處理方式與後續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運廠商、無預警測試的方式與日期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905120" y="923760"/>
          <a:ext cx="3835440" cy="50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923760"/>
                    <a:ext cx="3835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5334120" y="1228680"/>
            <a:ext cx="1066680" cy="6764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0800" y="1752480"/>
            <a:ext cx="1905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全真標準楷書"/>
                <a:ea typeface="華康細圓體"/>
              </a:rPr>
              <a:t>基隆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05520" y="2857680"/>
            <a:ext cx="1295280" cy="2664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971800"/>
            <a:ext cx="1828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全真標準楷書"/>
                <a:ea typeface="華康細圓體"/>
              </a:rPr>
              <a:t>花蓮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33720" y="2209680"/>
            <a:ext cx="1981080" cy="9907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971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苗栗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61960" y="1609560"/>
            <a:ext cx="2057400" cy="3715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182880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新竹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3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657240" y="1219320"/>
            <a:ext cx="12193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981080"/>
            <a:ext cx="914400" cy="6098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00800" y="23623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宜蘭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209320" y="1447920"/>
            <a:ext cx="2210040" cy="152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桃園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7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9907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台北縣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2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整合後的毒災聯防小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05160" y="1219320"/>
            <a:ext cx="14475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1066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台北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2590560" y="1752480"/>
            <a:ext cx="1600200" cy="6858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362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新竹市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(1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組</a:t>
            </a:r>
            <a:r>
              <a:rPr b="1" lang="zh-TW" sz="2400" spc="-1" strike="noStrike">
                <a:solidFill>
                  <a:srgbClr val="ffcc00"/>
                </a:solidFill>
                <a:latin typeface="Times New Roman"/>
                <a:ea typeface="華康細圓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6720" y="4508640"/>
            <a:ext cx="406728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北區共有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383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家廠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               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劃分為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18</a:t>
            </a:r>
            <a:r>
              <a:rPr b="0" lang="zh-TW" sz="36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24000" y="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99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國外聯防組織的編組方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7240" y="990720"/>
            <a:ext cx="79218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以區域性來編組：如相同工業區、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近城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、以運作相同的化學品來編組：如氯氣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TDI(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此大部分為運輸需求，如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CHLOR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、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SMAR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三、工會組織的方式：如化工業、責任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顧協會</a:t>
            </a:r>
            <a:r>
              <a:rPr b="1" lang="zh-TW" sz="32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TR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角色定位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680" y="685800"/>
            <a:ext cx="8153280" cy="49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應變工具與個人防護裝備的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應變專家技術諮詢提供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應變人力的提供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落實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680" y="509760"/>
            <a:ext cx="8572320" cy="58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各廠商可提供應變工具與個人防護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裝備的資料更新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種類、廠牌、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量等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各廠商二十四小時聯絡窗口與應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專家建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資料可上網，以權限及密碼來查詢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管理及資料更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毒災聯防小組的落實</a:t>
            </a:r>
            <a:r>
              <a:rPr b="1" lang="zh-TW" sz="4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680" y="509760"/>
            <a:ext cx="8572320" cy="52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四、聯防支援協定的簽署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權利與義務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聯防小組的組織架構及工作規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時機及表格文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角色定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支援的人力費用及設備費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使用後歸還的機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6.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仲裁單位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、消防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.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8600" y="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毒災聯防小組的訓練規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533520"/>
            <a:ext cx="8572680" cy="69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 Narrow"/>
                <a:ea typeface="華康細圓體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、透過縣市環保單位定期舉辦會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與訓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二、毒災應變諮詢中心規劃有系統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教育訓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三、定期舉辦毒災應變演練觀摩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十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   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底於新竹縣、十一月底於桃園縣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四、定期提供簡訊與演練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VC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1:20:15Z</dcterms:created>
  <dc:creator>aaa</dc:creator>
  <dc:description/>
  <dc:language>en-US</dc:language>
  <cp:lastModifiedBy>aaa</cp:lastModifiedBy>
  <dcterms:modified xsi:type="dcterms:W3CDTF">2002-12-30T05:09:29Z</dcterms:modified>
  <cp:revision>55</cp:revision>
  <dc:subject/>
  <dc:title>PowerPoint 簡報</dc:title>
</cp:coreProperties>
</file>